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jeopardy-short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Applause.wav" ContentType="audio/x-wav"/>
  <Override PartName="/ppt/media/jeopard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031-D36D-436E-BE33-379AB38E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857-35C8-4ED6-B022-3277711E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E73-FDD9-408B-A7C1-5A454B39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7A7-C967-4990-9890-6BD3B7F3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4AD5-3296-4A51-A627-8D01B909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590B-13CD-46E7-9901-EF6FE24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58CD-2F32-4B4F-9E23-C854822E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B6E-7374-49AA-A47C-50C95F6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D62E-E6CB-4989-B788-D0C3780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9834-D920-4D0A-947F-BD48E604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6DC-010C-41E8-A494-28C90F5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375-D226-44D9-8379-280339F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2F4-1DB9-4E07-8F90-236B3F4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D443-9B9B-4873-ACB8-68C9F26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2F1A-D43F-4BD3-9F0C-8B9B0B5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F0E1-5B2D-451B-AEBE-AB5055B2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D5BC-CC33-4F70-8E4B-36CE2D8B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50C-A3FD-4928-A234-C89D20DD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F11-C3D1-44E2-9116-B096480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7BC-9BF4-418E-892B-A62003F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F65-1D6B-48BA-A909-BC87D47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01D-EEE0-4B28-BE0D-A026E98E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A94-DF2E-48F9-A552-BBE5F8A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625-2288-4366-AC83-F8623276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310-F481-432F-9DBB-D4A82599521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BC01-5364-4727-911A-6B9E2414023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-short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4520" y="1203480"/>
            <a:ext cx="19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howcard Gothic"/>
              </a:rPr>
              <a:t>Th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1320" y="3184560"/>
            <a:ext cx="33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Showcard Gothic"/>
              </a:rPr>
              <a:t>Account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2193840"/>
            <a:ext cx="6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howcard Gothic"/>
              </a:rPr>
              <a:t>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4840" y="437976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Showcard Gothic"/>
              </a:rPr>
              <a:t>J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02040" y="438768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O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0" y="438156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A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5360" y="438768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P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8240" y="438300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E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8040" y="438480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R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9120" y="438624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D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5520" y="437688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Y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228600"/>
            <a:ext cx="804960" cy="712800"/>
            <a:chOff x="228600" y="228600"/>
            <a:chExt cx="804960" cy="712800"/>
          </a:xfrm>
        </p:grpSpPr>
        <p:sp>
          <p:nvSpPr>
            <p:cNvPr id="115" name=""/>
            <p:cNvSpPr/>
            <p:nvPr/>
          </p:nvSpPr>
          <p:spPr>
            <a:xfrm>
              <a:off x="2286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27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55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00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5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0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08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228600"/>
            <a:ext cx="804600" cy="712800"/>
            <a:chOff x="1219320" y="228600"/>
            <a:chExt cx="804600" cy="712800"/>
          </a:xfrm>
        </p:grpSpPr>
        <p:sp>
          <p:nvSpPr>
            <p:cNvPr id="123" name=""/>
            <p:cNvSpPr/>
            <p:nvPr/>
          </p:nvSpPr>
          <p:spPr>
            <a:xfrm>
              <a:off x="1219320" y="22860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3120" y="35244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5920" y="29700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0400" y="33336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50880" y="39384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8400" y="4446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1240" y="53028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09680" y="228600"/>
            <a:ext cx="804960" cy="712800"/>
            <a:chOff x="2209680" y="228600"/>
            <a:chExt cx="804960" cy="712800"/>
          </a:xfrm>
        </p:grpSpPr>
        <p:sp>
          <p:nvSpPr>
            <p:cNvPr id="131" name=""/>
            <p:cNvSpPr/>
            <p:nvPr/>
          </p:nvSpPr>
          <p:spPr>
            <a:xfrm>
              <a:off x="220968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384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7664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112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4160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912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196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153280" y="228600"/>
            <a:ext cx="804960" cy="712800"/>
            <a:chOff x="8153280" y="228600"/>
            <a:chExt cx="804960" cy="712800"/>
          </a:xfrm>
        </p:grpSpPr>
        <p:sp>
          <p:nvSpPr>
            <p:cNvPr id="139" name=""/>
            <p:cNvSpPr/>
            <p:nvPr/>
          </p:nvSpPr>
          <p:spPr>
            <a:xfrm>
              <a:off x="815328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0744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2024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72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520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3272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7556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162920" y="228600"/>
            <a:ext cx="804600" cy="712800"/>
            <a:chOff x="7162920" y="228600"/>
            <a:chExt cx="804600" cy="712800"/>
          </a:xfrm>
        </p:grpSpPr>
        <p:sp>
          <p:nvSpPr>
            <p:cNvPr id="147" name=""/>
            <p:cNvSpPr/>
            <p:nvPr/>
          </p:nvSpPr>
          <p:spPr>
            <a:xfrm>
              <a:off x="7162920" y="22860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16720" y="35244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9520" y="29700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04000" y="33336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94480" y="39384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2000" y="4446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84840" y="53028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72200" y="228600"/>
            <a:ext cx="804960" cy="712800"/>
            <a:chOff x="6172200" y="228600"/>
            <a:chExt cx="804960" cy="712800"/>
          </a:xfrm>
        </p:grpSpPr>
        <p:sp>
          <p:nvSpPr>
            <p:cNvPr id="155" name=""/>
            <p:cNvSpPr/>
            <p:nvPr/>
          </p:nvSpPr>
          <p:spPr>
            <a:xfrm>
              <a:off x="61722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263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391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36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041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16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81480" y="228600"/>
            <a:ext cx="804960" cy="712800"/>
            <a:chOff x="5181480" y="228600"/>
            <a:chExt cx="804960" cy="712800"/>
          </a:xfrm>
        </p:grpSpPr>
        <p:sp>
          <p:nvSpPr>
            <p:cNvPr id="163" name=""/>
            <p:cNvSpPr/>
            <p:nvPr/>
          </p:nvSpPr>
          <p:spPr>
            <a:xfrm>
              <a:off x="518148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3564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844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292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340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6092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0376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168800" y="228600"/>
            <a:ext cx="804960" cy="712800"/>
            <a:chOff x="4168800" y="228600"/>
            <a:chExt cx="804960" cy="712800"/>
          </a:xfrm>
        </p:grpSpPr>
        <p:sp>
          <p:nvSpPr>
            <p:cNvPr id="171" name=""/>
            <p:cNvSpPr/>
            <p:nvPr/>
          </p:nvSpPr>
          <p:spPr>
            <a:xfrm>
              <a:off x="41688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29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57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102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07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82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200400" y="228600"/>
            <a:ext cx="804960" cy="712800"/>
            <a:chOff x="3200400" y="228600"/>
            <a:chExt cx="804960" cy="712800"/>
          </a:xfrm>
        </p:grpSpPr>
        <p:sp>
          <p:nvSpPr>
            <p:cNvPr id="179" name=""/>
            <p:cNvSpPr/>
            <p:nvPr/>
          </p:nvSpPr>
          <p:spPr>
            <a:xfrm>
              <a:off x="32004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45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73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418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323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98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226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52280" y="6019920"/>
            <a:ext cx="804960" cy="712800"/>
            <a:chOff x="152280" y="6019920"/>
            <a:chExt cx="804960" cy="712800"/>
          </a:xfrm>
        </p:grpSpPr>
        <p:sp>
          <p:nvSpPr>
            <p:cNvPr id="187" name=""/>
            <p:cNvSpPr/>
            <p:nvPr/>
          </p:nvSpPr>
          <p:spPr>
            <a:xfrm>
              <a:off x="1522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4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2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7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42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17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45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143000" y="6019920"/>
            <a:ext cx="804960" cy="712800"/>
            <a:chOff x="1143000" y="6019920"/>
            <a:chExt cx="804960" cy="712800"/>
          </a:xfrm>
        </p:grpSpPr>
        <p:sp>
          <p:nvSpPr>
            <p:cNvPr id="195" name=""/>
            <p:cNvSpPr/>
            <p:nvPr/>
          </p:nvSpPr>
          <p:spPr>
            <a:xfrm>
              <a:off x="114300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9716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996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444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492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6528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133720" y="6019920"/>
            <a:ext cx="804600" cy="712800"/>
            <a:chOff x="2133720" y="6019920"/>
            <a:chExt cx="804600" cy="712800"/>
          </a:xfrm>
        </p:grpSpPr>
        <p:sp>
          <p:nvSpPr>
            <p:cNvPr id="203" name=""/>
            <p:cNvSpPr/>
            <p:nvPr/>
          </p:nvSpPr>
          <p:spPr>
            <a:xfrm>
              <a:off x="2133720" y="601992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7520" y="614376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0320" y="608832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4800" y="612468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65280" y="618516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2800" y="623592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55640" y="632160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077320" y="6019920"/>
            <a:ext cx="804600" cy="712800"/>
            <a:chOff x="8077320" y="6019920"/>
            <a:chExt cx="804600" cy="712800"/>
          </a:xfrm>
        </p:grpSpPr>
        <p:sp>
          <p:nvSpPr>
            <p:cNvPr id="211" name=""/>
            <p:cNvSpPr/>
            <p:nvPr/>
          </p:nvSpPr>
          <p:spPr>
            <a:xfrm>
              <a:off x="8077320" y="601992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31120" y="614376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43920" y="608832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18400" y="612468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08880" y="618516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6400" y="623592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99240" y="632160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086600" y="6019920"/>
            <a:ext cx="804960" cy="712800"/>
            <a:chOff x="7086600" y="6019920"/>
            <a:chExt cx="804960" cy="712800"/>
          </a:xfrm>
        </p:grpSpPr>
        <p:sp>
          <p:nvSpPr>
            <p:cNvPr id="219" name=""/>
            <p:cNvSpPr/>
            <p:nvPr/>
          </p:nvSpPr>
          <p:spPr>
            <a:xfrm>
              <a:off x="708660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4076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5356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804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852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6604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0888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095880" y="6019920"/>
            <a:ext cx="804960" cy="712800"/>
            <a:chOff x="6095880" y="6019920"/>
            <a:chExt cx="804960" cy="712800"/>
          </a:xfrm>
        </p:grpSpPr>
        <p:sp>
          <p:nvSpPr>
            <p:cNvPr id="227" name=""/>
            <p:cNvSpPr/>
            <p:nvPr/>
          </p:nvSpPr>
          <p:spPr>
            <a:xfrm>
              <a:off x="60958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00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628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373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278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53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81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105520" y="6019920"/>
            <a:ext cx="804600" cy="712800"/>
            <a:chOff x="5105520" y="6019920"/>
            <a:chExt cx="804600" cy="712800"/>
          </a:xfrm>
        </p:grpSpPr>
        <p:sp>
          <p:nvSpPr>
            <p:cNvPr id="235" name=""/>
            <p:cNvSpPr/>
            <p:nvPr/>
          </p:nvSpPr>
          <p:spPr>
            <a:xfrm>
              <a:off x="5105520" y="601992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59320" y="614376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72120" y="608832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46600" y="612468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618516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4600" y="623592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27440" y="632160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092480" y="6019920"/>
            <a:ext cx="804960" cy="712800"/>
            <a:chOff x="4092480" y="6019920"/>
            <a:chExt cx="804960" cy="712800"/>
          </a:xfrm>
        </p:grpSpPr>
        <p:sp>
          <p:nvSpPr>
            <p:cNvPr id="243" name=""/>
            <p:cNvSpPr/>
            <p:nvPr/>
          </p:nvSpPr>
          <p:spPr>
            <a:xfrm>
              <a:off x="40924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66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4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39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244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719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47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24080" y="6019920"/>
            <a:ext cx="804960" cy="712800"/>
            <a:chOff x="3124080" y="6019920"/>
            <a:chExt cx="804960" cy="712800"/>
          </a:xfrm>
        </p:grpSpPr>
        <p:sp>
          <p:nvSpPr>
            <p:cNvPr id="251" name=""/>
            <p:cNvSpPr/>
            <p:nvPr/>
          </p:nvSpPr>
          <p:spPr>
            <a:xfrm>
              <a:off x="31240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782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10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55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560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35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63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6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recurring set of accounting procedures carried out during each fiscal perio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79840" y="493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54800" y="4916520"/>
            <a:ext cx="52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accounting cy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business that buys goods and resells them at a higher price for a prof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00480" y="4927680"/>
            <a:ext cx="62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Merchandising busines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9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journal is known as this type of book because each balance entry is recorded there fir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84720" y="4950000"/>
            <a:ext cx="60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book of original entr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59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system of dealing with financial information that provides information for decision mak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15640" y="441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9840" y="6031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26280" y="491508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ccount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5960" y="193500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= L + O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7000" y="4916520"/>
            <a:ext cx="80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fundamental accounting equ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6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athering information about the daily goings on of the busine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00240" y="4950000"/>
            <a:ext cx="68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first activity in account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86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examination and testing of the books, records, and procedures of a busine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20040" y="492768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udit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079600" y="379872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15960" y="238140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elling the assets of a company for cas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880" y="48942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liquid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5960" y="239220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ada’s most-read news magazi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52640" y="4983120"/>
            <a:ext cx="34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Maclean’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Canadian stock exchange that lists the most compan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6440" y="4925880"/>
            <a:ext cx="65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Toronto Stock Exchang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92280" y="457200"/>
            <a:ext cx="7759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Showcard Gothic"/>
              </a:rPr>
              <a:t>Categories</a:t>
            </a:r>
            <a:r>
              <a:rPr b="1" lang="en-US" sz="4400" spc="-1" strike="noStrike" u="sng">
                <a:solidFill>
                  <a:srgbClr val="60371c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1468440"/>
          <a:ext cx="8686800" cy="4424400"/>
        </p:xfrm>
        <a:graphic>
          <a:graphicData uri="http://schemas.openxmlformats.org/drawingml/2006/table">
            <a:tbl>
              <a:tblPr/>
              <a:tblGrid>
                <a:gridCol w="1695600"/>
                <a:gridCol w="1717560"/>
                <a:gridCol w="1967040"/>
                <a:gridCol w="1739880"/>
                <a:gridCol w="1566720"/>
              </a:tblGrid>
              <a:tr h="157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Mind the GAAP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1-2-3 Account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What is accounting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O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Canada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Source Documen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77160" y="3144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5680" y="4871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2960" y="37195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3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9400" y="4282920"/>
            <a:ext cx="54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4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1200" y="4863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5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9200" y="543708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6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21720" y="31370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96160" y="3716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12360" y="4233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9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5400" y="5438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0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0920" y="3141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49080" y="37227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34680" y="42321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48000" y="4863960"/>
            <a:ext cx="7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4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24880" y="54356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5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47720" y="31384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28640" y="3718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28640" y="4229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31880" y="48531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20640" y="54291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0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57440" y="31370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2800" y="3718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66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09560" y="4229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2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89040" y="4869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17400" y="5438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4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>
            <a:hlinkClick r:id="rId25" action="ppaction://hlinksldjump"/>
          </p:cNvPr>
          <p:cNvSpPr/>
          <p:nvPr/>
        </p:nvSpPr>
        <p:spPr>
          <a:xfrm>
            <a:off x="2343240" y="6164280"/>
            <a:ext cx="4457520" cy="520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Showcard Gothic"/>
              </a:rPr>
              <a:t>FINAL JEOPAR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934 0.03167 E">
                                      <p:cBhvr>
                                        <p:cTn id="15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07 -0.07815 E">
                                      <p:cBhvr>
                                        <p:cTn id="16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5" dur="123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66" dur="123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68" dur="123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646 -0.13318 E">
                                      <p:cBhvr>
                                        <p:cTn id="17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80" dur="123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1" dur="123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3" dur="123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68 -0.19445 E">
                                      <p:cBhvr>
                                        <p:cTn id="19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5" dur="615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96" dur="615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97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98" dur="615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9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2312E-006 L -0.2191 0.13318 E">
                                      <p:cBhvr>
                                        <p:cTn id="20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0" dur="123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1" dur="123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3" dur="123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77 0.00208 E">
                                      <p:cBhvr>
                                        <p:cTn id="220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5" dur="123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6" dur="123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8" dur="123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0643 0.04231 E">
                                      <p:cBhvr>
                                        <p:cTn id="235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0" dur="123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1" dur="123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3" dur="123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226 0.04439 E">
                                      <p:cBhvr>
                                        <p:cTn id="250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5" dur="123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6" dur="123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8" dur="123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514 -0.03168 E">
                                      <p:cBhvr>
                                        <p:cTn id="265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0" dur="123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1" dur="123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3" dur="123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736 -0.09943 E">
                                      <p:cBhvr>
                                        <p:cTn id="280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5" dur="123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6" dur="123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8" dur="123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621 -0.28324 E">
                                      <p:cBhvr>
                                        <p:cTn id="295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0" dur="123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1" dur="123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3" dur="123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201 -0.15838 E">
                                      <p:cBhvr>
                                        <p:cTn id="31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5" dur="123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6" dur="123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8" dur="123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045 -0.18173 E">
                                      <p:cBhvr>
                                        <p:cTn id="325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30" dur="123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31" dur="123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33" dur="123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264 0.03375 E">
                                      <p:cBhvr>
                                        <p:cTn id="340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45" dur="123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46" dur="123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48" dur="123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844 -0.07838 E">
                                      <p:cBhvr>
                                        <p:cTn id="355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60" dur="123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61" dur="123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6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63" dur="123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646 -0.22405 E">
                                      <p:cBhvr>
                                        <p:cTn id="370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75" dur="123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76" dur="123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78" dur="123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77 0.05087 E">
                                      <p:cBhvr>
                                        <p:cTn id="385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0" dur="123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1" dur="123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93" dur="123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445 -0.05711 E">
                                      <p:cBhvr>
                                        <p:cTn id="400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05" dur="123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06" dur="123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0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08" dur="123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0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8 -0.01873 L -0.22778 -0.09272 E">
                                      <p:cBhvr>
                                        <p:cTn id="415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20" dur="123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21" dur="123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23" dur="123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2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9 -0.01456 L -0.1842 -0.17318 E">
                                      <p:cBhvr>
                                        <p:cTn id="43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35" dur="123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36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38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-0.05273 L -0.18559 -0.27261 E">
                                      <p:cBhvr>
                                        <p:cTn id="445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50" dur="123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51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5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53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01 0.00856 L -0.3651 0.08254 E">
                                      <p:cBhvr>
                                        <p:cTn id="460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65" dur="123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66" dur="123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68" dur="123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507 -0.04648 E">
                                      <p:cBhvr>
                                        <p:cTn id="475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80" dur="123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81" dur="123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83" dur="123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2 -0.02103 L -0.36996 -0.17525 E">
                                      <p:cBhvr>
                                        <p:cTn id="490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5" dur="123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96" dur="123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8" dur="123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9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5243 -0.26012 E">
                                      <p:cBhvr>
                                        <p:cTn id="505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10" dur="123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11" dur="123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13" dur="123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1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798 -0.09295 E">
                                      <p:cBhvr>
                                        <p:cTn id="520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25" dur="123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26" dur="123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28" dur="123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960" y="2514600"/>
            <a:ext cx="7912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vegetable do Canadians eat the mos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roccoli, carrots, lettuce, or potato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7520" y="492768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tato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84440" y="1604880"/>
            <a:ext cx="3952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OUBLE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4360" y="403200"/>
            <a:ext cx="8261280" cy="1697040"/>
            <a:chOff x="414360" y="403200"/>
            <a:chExt cx="8261280" cy="169704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662040" y="49536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414360" y="153972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"/>
            <a:stretch/>
          </p:blipFill>
          <p:spPr>
            <a:xfrm>
              <a:off x="1606680" y="110484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4"/>
            <a:stretch/>
          </p:blipFill>
          <p:spPr>
            <a:xfrm>
              <a:off x="7203960" y="40320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5"/>
            <a:stretch/>
          </p:blipFill>
          <p:spPr>
            <a:xfrm>
              <a:off x="6956280" y="144792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"/>
            <a:stretch/>
          </p:blipFill>
          <p:spPr>
            <a:xfrm>
              <a:off x="8148600" y="1012680"/>
              <a:ext cx="52704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5960" y="218124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o is Canada’s second largest trading partner: Great Britain, Japan, or Mex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71880" y="49276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is Canadian company is the world’s largest producer of frozen french fr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67200" y="4994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o is McCain Foods Ltd.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97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nancial event that causes a change in financial posi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0" y="493704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business transa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16880" y="503856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opening entr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2560" y="634356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97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journal entry that starts the account book off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6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is person does no accounting for provincial retail sales ta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200" y="5049720"/>
            <a:ext cx="40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o is the purchase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97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bank document informing the business of a decrease made in the business’s bank accoun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79360" y="496080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bank debit advic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97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source document that debits the bank and credits an accounts receiv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33320" y="502776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cash receip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FINAL JEOPARD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86840" y="5029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531280" y="6278400"/>
            <a:ext cx="390600" cy="311400"/>
          </a:xfrm>
          <a:prstGeom prst="leftArrow">
            <a:avLst>
              <a:gd name="adj1" fmla="val 50000"/>
              <a:gd name="adj2" fmla="val 31358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56386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are pin totals and pencil footing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209680" y="1600200"/>
            <a:ext cx="4419720" cy="2971800"/>
            <a:chOff x="2209680" y="1600200"/>
            <a:chExt cx="4419720" cy="2971800"/>
          </a:xfrm>
        </p:grpSpPr>
        <p:sp>
          <p:nvSpPr>
            <p:cNvPr id="439" name=""/>
            <p:cNvSpPr/>
            <p:nvPr/>
          </p:nvSpPr>
          <p:spPr>
            <a:xfrm>
              <a:off x="3886200" y="36576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289320" y="1600200"/>
              <a:ext cx="2565360" cy="2743200"/>
              <a:chOff x="3289320" y="1600200"/>
              <a:chExt cx="2565360" cy="27432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292560" y="1601640"/>
                <a:ext cx="2558880" cy="2739600"/>
                <a:chOff x="3292560" y="1601640"/>
                <a:chExt cx="2558880" cy="273960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3292560" y="1601640"/>
                  <a:ext cx="2558880" cy="325440"/>
                  <a:chOff x="3292560" y="1601640"/>
                  <a:chExt cx="2558880" cy="3254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360960" y="1601640"/>
                    <a:ext cx="2422440" cy="32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Bank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292560" y="1601640"/>
                    <a:ext cx="2558880" cy="32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3292560" y="1927080"/>
                  <a:ext cx="1279440" cy="370440"/>
                  <a:chOff x="3292560" y="1927080"/>
                  <a:chExt cx="1279440" cy="3704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3360960" y="192708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3265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92560" y="192708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4572000" y="1927080"/>
                  <a:ext cx="1279440" cy="370440"/>
                  <a:chOff x="4572000" y="1927080"/>
                  <a:chExt cx="1279440" cy="37044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4640400" y="192708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5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572000" y="192708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3292560" y="2297520"/>
                  <a:ext cx="1279440" cy="370080"/>
                  <a:chOff x="3292560" y="2297520"/>
                  <a:chExt cx="1279440" cy="37008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3360960" y="2297520"/>
                    <a:ext cx="114300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2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292560" y="2297520"/>
                    <a:ext cx="127944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4572000" y="2297520"/>
                  <a:ext cx="1279440" cy="370080"/>
                  <a:chOff x="4572000" y="2297520"/>
                  <a:chExt cx="1279440" cy="3700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640400" y="2297520"/>
                    <a:ext cx="114300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25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572000" y="2297520"/>
                    <a:ext cx="127944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292560" y="2667960"/>
                  <a:ext cx="1279440" cy="370440"/>
                  <a:chOff x="3292560" y="2667960"/>
                  <a:chExt cx="1279440" cy="3704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360960" y="266796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4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292560" y="266796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4572000" y="2667960"/>
                  <a:ext cx="1279440" cy="370440"/>
                  <a:chOff x="4572000" y="2667960"/>
                  <a:chExt cx="1279440" cy="3704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640400" y="266796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65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72000" y="266796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3292560" y="3038400"/>
                  <a:ext cx="1279440" cy="310680"/>
                  <a:chOff x="3292560" y="3038400"/>
                  <a:chExt cx="1279440" cy="3106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360960" y="303840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3865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292560" y="303840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572000" y="3038400"/>
                  <a:ext cx="1279440" cy="310680"/>
                  <a:chOff x="4572000" y="3038400"/>
                  <a:chExt cx="1279440" cy="3106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640400" y="303840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3650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72000" y="303840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3292560" y="3349080"/>
                  <a:ext cx="1279440" cy="310680"/>
                  <a:chOff x="3292560" y="3349080"/>
                  <a:chExt cx="1279440" cy="31068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3360960" y="334908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292560" y="334908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572000" y="3349080"/>
                  <a:ext cx="1279440" cy="310680"/>
                  <a:chOff x="4572000" y="3349080"/>
                  <a:chExt cx="1279440" cy="3106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640400" y="334908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572000" y="334908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3292560" y="3660120"/>
                  <a:ext cx="1279440" cy="370440"/>
                  <a:chOff x="3292560" y="3660120"/>
                  <a:chExt cx="1279440" cy="3704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3360960" y="366012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215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92560" y="366012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4572000" y="3660120"/>
                  <a:ext cx="1279440" cy="370440"/>
                  <a:chOff x="4572000" y="3660120"/>
                  <a:chExt cx="1279440" cy="3704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4640400" y="366012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572000" y="366012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3292560" y="4030560"/>
                  <a:ext cx="1279440" cy="310680"/>
                  <a:chOff x="3292560" y="4030560"/>
                  <a:chExt cx="1279440" cy="3106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360960" y="403056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292560" y="403056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4572000" y="4030560"/>
                  <a:ext cx="1279440" cy="310680"/>
                  <a:chOff x="4572000" y="4030560"/>
                  <a:chExt cx="1279440" cy="3106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4640400" y="403056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572000" y="403056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>
                <a:off x="3289320" y="1600200"/>
                <a:ext cx="2565360" cy="27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581280" y="1905120"/>
              <a:ext cx="190512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62640" y="1905120"/>
              <a:ext cx="0" cy="26668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819520" y="3200400"/>
              <a:ext cx="1218960" cy="3808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5028840" y="3276720"/>
              <a:ext cx="1066680" cy="91440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3429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72200" y="3962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-15228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817080" y="44323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7360" y="5146560"/>
            <a:ext cx="78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are Generally Accepted Accounting Principl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5440" y="1981080"/>
            <a:ext cx="795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l regulations and common practices that accountants foll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8360" y="1905120"/>
            <a:ext cx="76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ach expense item must be recorded in the same time period as the revenue it helped to ear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17080" y="44323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79840" y="528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09720" y="490536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Matching Princip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5440" y="2200320"/>
            <a:ext cx="795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accounting for a business should be fair and reason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82960" y="4894200"/>
            <a:ext cx="67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Principle of Conservatism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84440" y="1604880"/>
            <a:ext cx="3952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OUBLE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4360" y="403200"/>
            <a:ext cx="8261280" cy="1697040"/>
            <a:chOff x="414360" y="403200"/>
            <a:chExt cx="8261280" cy="169704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62040" y="49536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414360" y="153972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1606680" y="110484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7203960" y="40320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6"/>
            <a:stretch/>
          </p:blipFill>
          <p:spPr>
            <a:xfrm>
              <a:off x="6956280" y="144792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7"/>
            <a:stretch/>
          </p:blipFill>
          <p:spPr>
            <a:xfrm>
              <a:off x="8148600" y="1012680"/>
              <a:ext cx="52704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17080" y="44416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2200" y="502920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Business Entity Concep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8360" y="1905120"/>
            <a:ext cx="76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accounting for a business organization must be kept separate from the personal affairs of its own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5720" y="2222640"/>
            <a:ext cx="74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business will continue to operate unless it is known that it will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52920" y="493884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Continuing Concern Concep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decrease in equity resulting from the owner’s personal withdrawa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880" y="490536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are drawing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9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page specially designed to record changes in each individual item affecting the financial posi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82800" y="49370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n accou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21:51:21Z</dcterms:created>
  <dc:creator>Darren Deserranno</dc:creator>
  <dc:description/>
  <dc:language>en-US</dc:language>
  <cp:lastModifiedBy>Laird Laundy</cp:lastModifiedBy>
  <dcterms:modified xsi:type="dcterms:W3CDTF">2005-11-30T00:05:24Z</dcterms:modified>
  <cp:revision>132</cp:revision>
  <dc:subject/>
  <dc:title>PowerPoint Presentation</dc:title>
</cp:coreProperties>
</file>